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1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move the slide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1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 type="sldNum" idx="1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536A-D12A-4CE4-A8B4-5F37ACAFA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dule was last updated on February 20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7531-B31A-447D-95AE-883FDCA52E3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DDB2-ECF0-44A6-A81F-2932015637A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947E-D5FF-4E6C-9EA7-1FD89B2A5D4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6F10-C489-40BA-A9BA-E1C9BCDE39C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7A6E-7297-4300-9E25-D72DE6299F3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28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147"/>
          <p:cNvSpPr/>
          <p:nvPr/>
        </p:nvSpPr>
        <p:spPr>
          <a:xfrm>
            <a:off x="3970440" y="9019080"/>
            <a:ext cx="30384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4CA8-4213-45E6-A0CB-AC5C6F607FF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0053-9162-4B41-AE15-A028E8A9298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F1E2-8E4A-4487-9593-62F3A703434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794B-9F35-46CB-A4C5-80A8D1499A3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9E0A-C739-4C01-9C43-D99DFDB281F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FE33-DF32-4691-A933-B94464303C9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F711-0673-4A00-A43E-8B2E7B942DF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8E6F-2271-41E9-8125-BE64CB73C80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E068-70A8-4E8D-8A66-2123026998A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2B82-F640-43C7-8A24-55482A1CB93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BBDE-6A86-4107-AB68-91C5BF07871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94BF-D958-4D82-BC13-0365B95E8B6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9123-6C90-47B4-9857-2D1FFB233C7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4A58-3A5F-4F46-9DDC-E92C0F435DF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C1D3-75A5-4E7B-9C6A-C5A36E98132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1D30-1497-4FF2-814A-3FB2F4A227A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0ADEA-122A-44B6-84C5-FE665437D2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792B3-B8EC-46FA-A1E1-336F5F93EC0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34B1D3-0CCD-41FE-A60C-A52A92E99D3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09EB61-0584-4C99-9FA4-DF8D1A57538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E60D80-5227-4CCA-AB53-09434C3D6CC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52D471-6EF9-404B-BF0A-BB7197C4709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520C47-B3C9-40AF-9302-74A2C0128A1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5E9839-187D-4D9F-A4A8-3134FA853B2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0B354A-3324-4FEE-85CF-1EC39A590C9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D74280-8EC8-4E4A-8605-125D24FEB83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9DB307-B331-4423-A322-5BBAE1B878F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E86FED-6D7B-4F49-93CA-6D3C6FCF4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0ED6-D068-416B-8D88-AAA2F4036F3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F8BF37-819F-4207-9D41-7C447E82CE7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886640-750F-4E62-BDE7-B5E6156FB83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66DEF0-62B9-43D7-AA90-97C6C1126D4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4422C9-A374-4ED6-A6CE-31BDB6ED044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68E62-3CE7-4850-AD5E-8AD81A76B9A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A4DDB5-C312-4766-AAA7-31A603796B2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AC9386-20BF-47CD-9A33-34A2612F5D2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16EAA0-44A5-4332-9F65-5CF31DB2927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52745-7820-4D1D-9788-AE08CA019C0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CC3BDD-5994-4EB6-BB3E-AB521D2CD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7F6B3-3971-44B6-9DF5-604E66FCD1E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71F6AB-9196-41F3-9762-39F4168E693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9C916-9800-400B-9863-83B6DEBE296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E3405-5A4F-4EA6-A93D-583F38CB8AF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FC73C-FA47-4035-BA4C-F7062DC6A06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26D37-C570-421A-B7E6-DE782510DB2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A69B6-21FC-4E12-B7DC-18DB7056DC4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48818-DE98-41FE-B322-F328B88AB7D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820A9-A60E-4AEF-9D07-5F99565F9DC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7B327-8BC0-4B8D-92E9-241E5BC66A1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2D934-D3AB-40F7-9973-723030DB9A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9D4BA-E4FD-464F-B0F1-CC839487EA5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451F8-D00F-46FD-B513-993F4A112D4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91ADB-9226-464D-91C1-3FA0B905A10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14ECA7-4AE6-41A4-82C9-F308C513950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E5C163-4593-4A23-A092-B7B24C7F853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EDDCFB-1088-4E08-8256-AEA6B57385E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A4AB95-1562-470D-8A24-2A1FD60201A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193098-D1FB-49C8-92EA-96F255B900D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B1B0CF-0143-4F81-82A2-94B9629AE16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E3975A-A689-4A68-969D-5617675FA3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9545BE-1EC8-4F2F-A018-A22132D6F58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EF6C96-7E9F-4803-9FFB-7A1762D3E5D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1A0355-7373-43C8-A9BD-64C2A2C6C33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B90AFD-E4D2-44B7-8F29-2B54B63DBDE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0AB220-E6E0-4A18-9D0D-DB41C90AB6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3F46F-C20E-47C3-9B6B-A73CF99D21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40074-EB3D-4482-8D36-D6F6B650F8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7EC55-0FF1-4FD0-B2F2-F6067F9E40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FC708-06EC-476D-8B09-9F849E2E57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15FDA-4801-4B7B-8152-41D7CB444C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8AC40-9B76-483E-8213-CAD9ACBADA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19791-0001-40CF-A345-B021556F60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46CD4-84C5-4880-8DD6-2C46401164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871BF-D8D9-431C-B935-FE956DDF2E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D7B97-7438-4635-9499-B47FDBAE58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8EE30-6A86-4267-B38E-34FAFFC85A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A437A-E94B-40F7-A955-B5B8F6CDF2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3715E-713A-47C9-B499-F1C779BB82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258D1-A202-4559-A141-A8CB34B6567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FD1FD-0FAB-472C-900E-BA22C4768CE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3474-1904-4DBD-862C-1E76A37E5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7250D-9C6D-4375-9BAA-4C5FA4BFD9B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D48F-F2D5-443C-A223-3C7ABA791A2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1736-5FAE-4780-B5A6-FEB025CD953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08F2-A05A-42F7-B975-A6700990DC9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A5AB-A020-4BCB-8976-BC70F194AC2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83D4-0DDE-47A4-AFA2-C351DEBB169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DF02-C3C0-467C-86F1-F4B3213F11B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934A-A9CA-45F9-8143-D212A04F48B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AF76-9FFE-4F03-BFE3-11A302D2738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2819-3F3D-4930-B8E9-6D6463E70B2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3A6D-5553-4635-AE08-5BED4D8C6E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0373D-EBC6-4106-8B1E-BE74EFD752B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F949-6E71-4C20-B1F2-EFA9AEB4962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3E257-FF57-49DD-B691-7E5FA7522BF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9C8DF-3178-4DCA-A023-F8826EE8BCB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B6F2B-AB3D-4A40-8B9E-555C5104877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7DEDB-566F-4579-9855-282BEAF3E19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6239C-A6A4-4F3A-8AE9-6AACFF43B43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4D3B4-FC8B-47DD-B0C8-9B1AC67F618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7D214-FE9A-4496-9195-073C9416F89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6C47F-10D0-4AC1-B5A0-AA01A807D9F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CE6B2-35FE-4E04-B7B0-F544F3171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D97C-8DBA-4B43-BD72-0FB4D36E46A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F0E9C-07D1-466A-805E-984D498603B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1A6AE-C008-4496-93E3-94BC0CFC174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440FE-E6F8-42F1-82A8-CF460A3A78B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AA7E0-4712-4E22-B882-7935586C5D6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89A17-BEBA-43B3-96BF-9E9EC998334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272E6-487C-440B-893E-AE3CF57224C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DEA85-961C-402A-9286-D0FA44A14BD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C706D-CCB5-4537-B6CD-39A3604B85E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EAC8B-FA45-488E-8DDF-DD98AFE6F5B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8AAE5-138E-4ECE-AEF8-2929B950B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9A4D7-9AC8-422A-BB31-A6122B96771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D8940-E507-4636-A00D-0F8D094B6CB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271B7-3956-43A0-8304-B11B401867F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CBAA9-66BD-4305-A7D0-71524D2131C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E2C2C-7E17-467F-88B9-BB958949AB7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5AD6D-1037-470B-BD6F-533A11A7FFD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A75C-1283-4DC5-AD71-8F14834967B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16E3-4341-46E9-B662-2FC97F5C27D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DF20-5B40-4790-A64C-904D735787A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9592-6563-440A-AD72-A3EF2611C3E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877A-760A-4F10-B5DB-D3CB2870B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9CA2B-F3F6-4CE5-96E5-62B37363189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3DCA-94E9-49B0-A21A-E521CA4D56A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F5FF-E86C-403E-AD99-AD1B50E2E10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260A-89DF-472E-956F-182DDE63E0B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A486-EC2D-42A5-AD8B-52CA0AA802E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6884-6661-4061-91CA-9E13E73C3B7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AFBA-71C0-42D3-8ACF-A9B93C034BC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D7C9-24AA-4B7A-B889-621F77CD744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864983-EDD1-45E2-BF77-63697C73876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3C0901-D243-4887-8186-E5EED0A2A56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2BD2B1-545D-4417-972B-D198D5495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23240" y="6475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5173-013D-4C8A-B23D-D2C40B2C16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8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8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A0A6-70EC-43BB-8B4D-771438AFA3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27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9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D22F-3E0D-4E3F-90B1-97834BEBC5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7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10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D60E-6286-4C94-8A69-4AEC9996DB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0" y="4032360"/>
            <a:ext cx="9144000" cy="158760"/>
          </a:xfrm>
          <a:prstGeom prst="rect">
            <a:avLst/>
          </a:prstGeom>
          <a:solidFill>
            <a:srgbClr val="1e7143"/>
          </a:solidFill>
          <a:ln w="9360">
            <a:solidFill>
              <a:srgbClr val="1e71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79" name="Rectangle 6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ight Triangle 7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2"/>
          </p:nvPr>
        </p:nvSpPr>
        <p:spPr>
          <a:xfrm>
            <a:off x="692892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5F1F-2AEE-4684-8CAA-9BDB3FD1BA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983280" y="6502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02FE-9EAC-40EB-8BB4-5A32489445D0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6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124" name="Rectangle 7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ight Triangle 8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166" name="Rectangle 6"/>
            <p:cNvSpPr/>
            <p:nvPr/>
          </p:nvSpPr>
          <p:spPr>
            <a:xfrm>
              <a:off x="1098360" y="6541920"/>
              <a:ext cx="8045640" cy="3207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ight Triangle 7"/>
            <p:cNvSpPr/>
            <p:nvPr/>
          </p:nvSpPr>
          <p:spPr>
            <a:xfrm rot="16200000">
              <a:off x="771120" y="6541560"/>
              <a:ext cx="3207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3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BD07-B5D1-4E45-A99B-4B9D7FD450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210" name="Rectangle 6"/>
            <p:cNvSpPr/>
            <p:nvPr/>
          </p:nvSpPr>
          <p:spPr>
            <a:xfrm>
              <a:off x="1098360" y="6543360"/>
              <a:ext cx="8045640" cy="31932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ight Triangle 7"/>
            <p:cNvSpPr/>
            <p:nvPr/>
          </p:nvSpPr>
          <p:spPr>
            <a:xfrm rot="16200000">
              <a:off x="771840" y="6540840"/>
              <a:ext cx="31932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4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E8DE-C6D0-42AD-BCC6-F38F511866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5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5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104C-A756-41DF-A49F-8924286C83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98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6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98AF-8710-41BA-8185-3E8B08056A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4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3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7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10E7-6BA2-4F4E-BDDA-1B992E8129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165400"/>
            <a:ext cx="769608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3e27"/>
                </a:solidFill>
                <a:latin typeface="Century Gothic"/>
              </a:rPr>
              <a:t>Using the Publishers’ Criteria for ELA/Literacy to Better Understand the Standards</a:t>
            </a:r>
            <a:endParaRPr b="1" lang="en-US" sz="36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4271760"/>
            <a:ext cx="6400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22" name="Picture 4" descr="C:\Users\SAP\Desktop\SAP_iTunesCover_square_01.jpg"/>
          <p:cNvPicPr/>
          <p:nvPr/>
        </p:nvPicPr>
        <p:blipFill>
          <a:blip r:embed="rId1"/>
          <a:stretch/>
        </p:blipFill>
        <p:spPr>
          <a:xfrm>
            <a:off x="7658280" y="2286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D97D-E1A0-4565-A183-8EE2AB249F96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457200" y="2509920"/>
            <a:ext cx="820116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6-12, ELA programs include substantially more literary nonfiction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quality of the texts is high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texts and text types named in the standards are included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anchor texts are selected for especially careful read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0967-047C-421E-8C43-DF0775AB6E40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do the current reading selection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in our instructional setting align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to the expectations of the Common Core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o is engaged in conversations about text selection in our distric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are content area teachers engaged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E410-F23F-4CCC-8920-B165ADDF44E2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High-Quality Text-Dependent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significant portion of the tasks and questions are text-dependent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igh-quality sequences of text-dependent questions elicit sustained attention to the specifics of the text and their impac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the use of textual evi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tructional design cultivates student interest and engagement in reading rich texts carefully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rovide opportunities to build knowledge through text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attend to analyzing the arguments and information central to informational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3791-16D5-4C75-B287-053306AC8D2F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Non-Examples and Example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6929280" y="654192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DA2F-ABAB-4198-A795-1E35E89B1A8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43040"/>
            <a:ext cx="40226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Casey at the Bat,” Casey strikes out. Describe a time when you failed at something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Letter from a Birmingham Jail,” Dr. King discusses nonviolent protest. Discuss, in writing, a time when you wanted to fight against something that you felt was unfair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The Gettysburg Address” Lincoln says the nation is dedicated to the proposition that all men are created equal. Why is equality an important value to promote?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4760" y="1642680"/>
            <a:ext cx="3841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makes Casey’s experiences at bat humorous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can you infer from King’s letter about the letter that he received?  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The Gettysburg Address” mentions the year 1776. According to Lincoln’s speech, why is this year significant to the events described in the speech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Shape 139"/>
          <p:cNvSpPr/>
          <p:nvPr/>
        </p:nvSpPr>
        <p:spPr>
          <a:xfrm>
            <a:off x="228600" y="61228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1"/>
          <p:cNvSpPr/>
          <p:nvPr/>
        </p:nvSpPr>
        <p:spPr>
          <a:xfrm>
            <a:off x="457200" y="1247760"/>
            <a:ext cx="402264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Not 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2"/>
          <p:cNvGrpSpPr/>
          <p:nvPr/>
        </p:nvGrpSpPr>
        <p:grpSpPr>
          <a:xfrm>
            <a:off x="4538520" y="1349280"/>
            <a:ext cx="549360" cy="5029560"/>
            <a:chOff x="4538520" y="1349280"/>
            <a:chExt cx="549360" cy="5029560"/>
          </a:xfrm>
        </p:grpSpPr>
        <p:cxnSp>
          <p:nvCxnSpPr>
            <p:cNvPr id="565" name="Shape 138"/>
            <p:cNvCxnSpPr/>
            <p:nvPr/>
          </p:nvCxnSpPr>
          <p:spPr>
            <a:xfrm flipH="1">
              <a:off x="4784040" y="1349280"/>
              <a:ext cx="1080" cy="5029920"/>
            </a:xfrm>
            <a:prstGeom prst="straightConnector1">
              <a:avLst/>
            </a:prstGeom>
            <a:ln w="19080">
              <a:solidFill>
                <a:srgbClr val="0e291a"/>
              </a:solidFill>
              <a:miter/>
            </a:ln>
          </p:spPr>
        </p:cxnSp>
        <p:sp>
          <p:nvSpPr>
            <p:cNvPr id="566" name="Shape 140"/>
            <p:cNvSpPr/>
            <p:nvPr/>
          </p:nvSpPr>
          <p:spPr>
            <a:xfrm flipH="1" rot="10800000">
              <a:off x="4538520" y="186516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Shape 140"/>
            <p:cNvSpPr/>
            <p:nvPr/>
          </p:nvSpPr>
          <p:spPr>
            <a:xfrm flipH="1" rot="10800000">
              <a:off x="4538520" y="310032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Shape 140"/>
            <p:cNvSpPr/>
            <p:nvPr/>
          </p:nvSpPr>
          <p:spPr>
            <a:xfrm flipH="1" rot="10800000">
              <a:off x="4538520" y="4995720"/>
              <a:ext cx="549360" cy="366480"/>
            </a:xfrm>
            <a:prstGeom prst="rightArrow">
              <a:avLst>
                <a:gd name="adj1" fmla="val 50000"/>
                <a:gd name="adj2" fmla="val 50099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TextBox 14"/>
          <p:cNvSpPr/>
          <p:nvPr/>
        </p:nvSpPr>
        <p:spPr>
          <a:xfrm>
            <a:off x="5145120" y="1247760"/>
            <a:ext cx="384156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ultivating Students’ Ability to Read Complex Texts Independent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caffolds enable all student to experience rather than avoid the complexity of a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 strategies support comprehension of specific texts, focus on building knowled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 for whole-group, small-group, and individual instruction cultivates responsibility and indepen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careful comprehension of the text firs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the text the focus of instruc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offer assessment opportunities that genuinely measure progres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2BCD-969D-463A-94BE-F781A4DE4719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Academic Vocabulary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ier 2” words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resent across content areas (in contrast to domain-specific words)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098F-3AAA-4829-9ED0-57E83372973E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What is our current practice of vocabulary instruction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Is it aligned to the requirements of the Common Core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college and career readiness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access to complex text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How are we supporting English Language Learners with vocabulary acquisition through complex text?   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AF55-C6CA-4538-8E83-26FBD636F764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focus on forming arguments as well as writing to inform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elementary school 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middle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high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2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90D3-324C-4C9F-88B3-C67981892482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focus on forming arguments as well as informative writ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it clear that student writing should be responsive to the needs of the audience and the particulars of the text in ques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udents are given extensive practice with short, focused research projec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ECEE-090B-4C16-829E-5D31C9FB40DD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cebreaker Ques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is the intention of the Publishers’ Criteria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o is it intended for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w can it support these different audiences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F5DF-6572-4310-B882-7A613ABE7181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Putting it all together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four strands of ELA– reading, writing, speaking and listening– are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mean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o be woven together. This is as true in instructional materials as in curriculum mapp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l three shifts are meant to be in play at o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re is no either/or here: good materials need all of thi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e wary of materials and approaches that seek to segregate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Gothic"/>
              </a:rPr>
              <a:t>What’s In and What’s Out?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68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IN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OU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Leveled texts (only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any ‘ol tex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Solely literature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llection of unrelated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to-self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writing without sourc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literary terminolog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p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end goa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(peripheral and detach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28600" y="1676520"/>
            <a:ext cx="4268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Daily encounters w/complex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Texts worthy of close attention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Balance of literary and info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herent sequences of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dependent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evidence-based analys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academic vocabular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reading &amp; 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means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</a:t>
            </a:r>
            <a:br>
              <a:rPr sz="2000"/>
            </a:b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(central and integrat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04560" y="1371600"/>
            <a:ext cx="67770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It all boils down to. . .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Content Placeholder 2"/>
          <p:cNvSpPr/>
          <p:nvPr/>
        </p:nvSpPr>
        <p:spPr>
          <a:xfrm>
            <a:off x="1042920" y="2362320"/>
            <a:ext cx="6777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Texts Worth Read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Questions Worth Answering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Goals for this Sess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closely examine the Publishers’ Criteria in an effort to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in a deeper understanding of the Common Core State Standards and the shifts they require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the Standards’ implications for instructional material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dge materials for alignment and reflect on the appropriate use of existing classroom resources and strategi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1C04-D512-4FD2-B033-4BA9D297D50A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ELA/Literacy:  3 shift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091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practice wit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mplex te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its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language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, writing, and speaking grounded in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evidence from text,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oth literary and informational</a:t>
            </a:r>
            <a:br>
              <a:rPr sz="2400"/>
            </a:b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Building knowledg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roug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ntent-rich nonfiction</a:t>
            </a:r>
            <a:br>
              <a:rPr sz="2400"/>
            </a:b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Publishers’ Criteria for the Common Core State Standards in English Language Arts and Literacy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ed to guide publishers and curriculum developers as they work to ensure alignment with the CCS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cuses on the most significant elements of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ot intended to dictate classroom practi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rised of two documents: grades K-2 and 3-12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imed to support the responsibilities of both producers and purchasers of instructional material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5513-68F0-4D67-9493-B1362F30D885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Document Organization 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 section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Text Selec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Writing to Sources and Research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7096-82B8-4CEA-BFE9-21A117C70D3B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. 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ign with grade by grade complexity requirements outlined in the Standard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Give all students access to and support with grade-level complex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shorter, challenging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novels, plays, and other full-length reading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rease regular independent reading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EE39-2AE5-465F-B319-43B493D6E0B4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Features of Complex Tex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0948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ubtle and/or frequent transit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ultiple and/or subtle themes and purpos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nsity of inform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ess common settings, topics or even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repetition, overlap or similarity in words and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lex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ncommon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words, sentences, or paragraphs that review or pull  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ngs together for the stud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onger paragraph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y text structure which is less narrative and/or mix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ructur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 of passive voi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24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  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at practices and materials are currently     in place in our instructional setting to support  </a:t>
            </a:r>
            <a:r>
              <a:rPr b="0" i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all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students in accessing appropriately     complex tex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ere do we have need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(materials, PD, assessment tools)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2823-DEE0-49B8-8D42-F209B85FF269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00:06:53Z</dcterms:created>
  <dc:creator>Sandra</dc:creator>
  <dc:description/>
  <dc:language>en-US</dc:language>
  <cp:lastModifiedBy>Pascale Joseph</cp:lastModifiedBy>
  <cp:lastPrinted>2013-04-08T14:38:34Z</cp:lastPrinted>
  <dcterms:modified xsi:type="dcterms:W3CDTF">2020-01-23T19:22:26Z</dcterms:modified>
  <cp:revision>112</cp:revision>
  <dc:subject/>
  <dc:title>Using the Publishers’ Criteria for ELA/Literacy to better understand the Standards</dc:title>
</cp:coreProperties>
</file>